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2C91-0984-46A8-A2A9-961413DDD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F70A-5D88-48DF-A569-65EFCBA1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1BB054-7D4D-4193-948F-77312771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394B58-73AF-48FE-9CD9-08613DB5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06FE2A-7514-4317-8A75-1CB5A0EF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D398D3-DF10-49D3-8E9D-5B9419EC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BBA004-7825-43C5-9449-C9BCAB12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CD1701-5226-41E7-B14D-60873385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2722DA-353E-4013-996B-ABE3EDE2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D747FE-FB5B-41A2-8B8C-2C07E8C21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ADEFCE-98A5-495F-B85E-2780EC5EF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5AF113-F442-4B70-BEAB-C21FC348D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EFCD-03C4-41C1-9B9D-9E7910805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A0C0D6-CE6F-40C0-85B8-0038AE09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9094DF-8C95-4A60-96C7-5619D2C1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5F3D96-4715-408C-B0E0-35521354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FBAFF1-5C71-4DBB-831E-66658ABE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159EB6-980D-43D2-BAFF-BDEC1CA3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801529-84EA-49B2-860C-BC4BDAF2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83554F-8088-48B5-8B68-9C807246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8C5C0D-844A-4DC2-B7CE-9324727A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078CB4-3865-469F-A31B-4980365C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8B4265-736F-4410-A0DF-91F6034A9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C663-48E2-40EA-9369-7C2782960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DC154D-3AA8-4D3A-B3FA-BBE778490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6EFBA2-81E3-438D-BA37-CDA333E64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38E57-A9D7-432E-BB80-E22E9847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8B377-B88E-4448-9299-533BADE7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38AD1-7799-4E55-8199-19B1B5F7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E55E8-8893-4E0F-ADBE-FD5F9259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96FB28-EAAF-4EC7-A5D4-91C2F539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B304C-BB76-427C-8701-C772C99B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00F44-C065-4EDB-93DF-E660EE56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05C261-CEA7-43B8-A12C-8612DC3F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7EEE-D5C5-4611-9319-034C8C71B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8C28C1-5673-4E49-9E44-F32E19BE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D62C2-56EF-4E01-B7B3-CB5714AB9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C862C-4878-45E8-81E0-9E3BF3E07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511442-91A6-48D7-BBAC-A6A94E5FA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336B52-C7D8-45DB-9152-F25C6B92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149937-E405-4A25-B92C-2F65ACC7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52492C-B451-4CA1-931B-ADDAC9C2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6BB3A7-8545-4201-89C7-997DA9D6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52B4DE-48B0-4214-9F1B-D239A363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A80E85-F951-45D9-B6E3-C2E6977C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78A5-6CBC-4C42-8EDD-7652AE7E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3AE4D7-6296-4660-8D47-AF9C4042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C1CB84-246D-45B9-B9CA-80BFB60C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8F0A10-3976-4330-BE5D-9FBC8E8A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803ED1-068F-438D-B8EE-BA934F66C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4BCD93-E97A-4302-8EAE-80C021B8E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8EFB2-3603-4D69-B31F-DB5C72F1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313D-83AE-4BF2-9A0F-708FF484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D81B-4E22-42EF-869C-0C7D7AE7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C31A-F6E6-4769-BE05-4A7331F4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77434-63C0-46D5-BA19-D52954FD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7E86-AB16-4A26-8254-E9BC2F83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963A6-4688-4EEF-A29C-18AEBD69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D1FF-67C6-43D6-9102-D40C4749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C3C72-125E-4874-9B87-3904568F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1148-32A2-4F1A-9B70-1C7AB88BA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ECB4-97EE-4400-9635-9AC579859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31467-A0F7-4871-ABBC-2C2E84F8B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6AC77-ECF4-467A-8B7A-1933224D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25023-128A-4105-9C5B-266A924B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1D527-A1A7-45AC-9AE9-2C16AFF7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85EE5-D267-4505-B834-326ED495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DCDC-0900-4577-87AA-EDEC434E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D8F5F-01C0-4795-AD96-E6CFB8B2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0FEF5-52B6-40D9-9C90-4A5128A9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12C71-96AC-4BC6-B623-A794E352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64C2C-CCCD-4D0B-AB62-CEB9CE12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9A479-29A8-4FC2-BD13-8B4DED4C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7BD8D-93F8-4C7F-BC20-2DEFFA69B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F370C-1971-49BB-8455-6F891EE10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30850-77E2-4AE3-90B3-6E44E570B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B569C-B3AF-4776-A486-3AFD61EC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6DDFA-B408-4718-ACF1-D4EF3B70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4DE0-7044-4E21-BCE3-25E61962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484FB-68B9-4759-A724-FB144980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532F8-8B02-41C4-84A9-0B205D71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D4849-7DC7-4E62-8B85-A89C35B0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4643C-6E51-4372-9C8D-1CBAEF6D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18119-CB34-44B4-852F-972EA1B6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F7DE2-9A3F-4AC5-A1CA-4A822A32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63835-0965-46B5-94BB-12D825D3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74F7C-E950-4159-B712-72CAB4C7A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FCFDE-2968-4D9C-8AC8-6DA11306E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C558D-6D3C-4C30-B792-45B8EB5C8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E9E4-D66E-411A-8974-F12B1578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66352-AC7B-4072-821A-CC643316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EAA23-47EF-43E5-9D3C-6A332500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48FC6-E0DA-43D5-9A1D-06B287D3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635F1-B67C-41FF-A3C0-B384CE8C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8E7C2-B824-4BA6-AB88-AA135B0C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15E5A-627B-43EF-B122-F119C91F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085C1-64CB-4DD1-A453-0799D064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469E9-AB40-4350-85A0-849A87FB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A94B7-CF79-4093-9091-81B2CA0B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E1702-68CE-4308-A0DC-C4ADA08CC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2624-0669-4280-BCE8-5BA3D0AB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B2CCA-8453-4143-854F-31D7C7F64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DF3D9-3282-44AF-9CB0-2A7EFA49D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E113C-5282-4ECA-9494-050B336A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2A561-E9DC-41F9-A3F7-E66D227C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07AC5-E147-4E95-B842-A12BDA33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387D0-6052-4983-8E61-B48E321D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B034D-B00F-49E2-B5FC-8B7CAE94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C1F6D-054F-4B21-94B9-749CA04F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58926-5D31-497B-B164-505E91C0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17BDC-D69D-4B9A-A0C9-D32762C5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1B37-B595-4350-88AF-CD73E84D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5FC52-9541-49F5-A249-2BCF2CA9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03161-B274-40D9-B6B9-C03BDB14D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A26B6-BC30-4BBB-BDE4-DC009D6BB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C87CA-95BC-4044-B551-FD5E7534E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C07EC-B7BB-446C-AB6D-909617C3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9B5F0-0FBE-46EA-963E-BD36CBD2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7B9B0-74FF-48FF-91B7-140869C9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FFEF5-58AD-4708-985C-2D83FA9A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24E19-EF6D-482B-B4E0-C9A40198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0A57C-E22E-4713-AD65-A4FFFAF5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A6D2-73E5-496C-9627-A3E40F24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CEDA8-4F66-4456-9B2A-54A75F53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830B9-C564-4F20-A3AC-FE8B0354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43C41-A60F-4937-B4A4-1EC92C89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E8BAA-FD10-40CA-BEB1-D57817C73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30FCF-B421-4570-B5F6-91CD85B32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A7901-7450-43DB-9EE6-5F506F8B1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606DA-05DA-41AC-A074-B77DE3BE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24558-E4FF-444D-9E31-FF38ABCD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9391F-4922-434D-BBDE-33B758E1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2C78A-DBC1-4C85-AF4F-723B0B57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2826-40AE-4E9C-A8C1-BF669E36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A48D1-239F-4064-832F-4F6EA03C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7A311-A1EB-43FC-A0DD-BA6AFE5A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F5CE6-1464-45BF-9598-29D1EDFD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592D3-4624-495E-B8EF-8DEAD26D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7AAD8-A34F-4B04-9E6A-2590EFE2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F4FCE-79F1-4795-81A9-9503954D3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3BC1D-6224-4EE5-A313-034B71719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76E5D4-D69A-4B93-BD42-6E234D575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B77A97-2F7E-4E90-B1CB-931936C1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17682C-901B-4190-B02A-80124F9D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3393-96F6-451D-979A-D37F94A81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0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2F36-DA26-4616-8C26-256E328D7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5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344B-AF11-41BD-9FA5-07A95FD52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9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25B8-38EE-4D1F-94DF-785D2E90F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1571-D18F-4060-BE97-55A2A171B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9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71B2-AF21-468F-B0F1-4D6C89183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3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BA9C-8D81-40C4-9051-6E8378A57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8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8F61-A6F8-4119-9E45-1D1AEBB3B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22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3742-9B01-41FF-A5FD-138D23FBE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27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5806-A450-4B4D-9864-39B86D2BD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31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6AFC-8912-40B7-973C-B9997BBFC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36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5DF0-FDAA-4F02-8CBD-8C5DFDBEC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United State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3 Eastern States and Capital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est 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2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5"/>
          <p:cNvSpPr/>
          <p:nvPr/>
        </p:nvSpPr>
        <p:spPr>
          <a:xfrm>
            <a:off x="6248520" y="26668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ta’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leig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es from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r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his sac of toys for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roli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Freeform 7"/>
          <p:cNvSpPr/>
          <p:nvPr/>
        </p:nvSpPr>
        <p:spPr>
          <a:xfrm rot="20349000">
            <a:off x="5343480" y="3259080"/>
            <a:ext cx="884160" cy="4669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Text Box 8"/>
          <p:cNvSpPr/>
          <p:nvPr/>
        </p:nvSpPr>
        <p:spPr>
          <a:xfrm>
            <a:off x="6172200" y="42670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North Carolina, Raleig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8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ichig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s Mitten grabbing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a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Freeform 7"/>
          <p:cNvSpPr/>
          <p:nvPr/>
        </p:nvSpPr>
        <p:spPr>
          <a:xfrm>
            <a:off x="4572000" y="2057400"/>
            <a:ext cx="808200" cy="7621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6324480" y="40384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Michigan, Lans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4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5"/>
          <p:cNvSpPr/>
          <p:nvPr/>
        </p:nvSpPr>
        <p:spPr>
          <a:xfrm>
            <a:off x="6248520" y="266688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Freeform 9"/>
          <p:cNvSpPr/>
          <p:nvPr/>
        </p:nvSpPr>
        <p:spPr>
          <a:xfrm>
            <a:off x="4800600" y="2666880"/>
            <a:ext cx="457200" cy="7621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Text Box 10"/>
          <p:cNvSpPr/>
          <p:nvPr/>
        </p:nvSpPr>
        <p:spPr>
          <a:xfrm>
            <a:off x="6400800" y="28954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 Clue Giv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Text Box 11"/>
          <p:cNvSpPr/>
          <p:nvPr/>
        </p:nvSpPr>
        <p:spPr>
          <a:xfrm>
            <a:off x="6248520" y="40384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Indiana, Indianapol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1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612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aid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“O Hi O” to Columbus’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a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Freeform 9"/>
          <p:cNvSpPr/>
          <p:nvPr/>
        </p:nvSpPr>
        <p:spPr>
          <a:xfrm>
            <a:off x="5105520" y="2590920"/>
            <a:ext cx="533160" cy="60948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Text Box 10"/>
          <p:cNvSpPr/>
          <p:nvPr/>
        </p:nvSpPr>
        <p:spPr>
          <a:xfrm>
            <a:off x="6400800" y="3657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Ohio, Columb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7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618" name="Text Box 5"/>
          <p:cNvSpPr/>
          <p:nvPr/>
        </p:nvSpPr>
        <p:spPr>
          <a:xfrm>
            <a:off x="6248520" y="35812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rida’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ail is Sass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Freeform 7"/>
          <p:cNvSpPr/>
          <p:nvPr/>
        </p:nvSpPr>
        <p:spPr>
          <a:xfrm rot="19281600">
            <a:off x="5279760" y="3949200"/>
            <a:ext cx="685800" cy="118584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Text Box 8"/>
          <p:cNvSpPr/>
          <p:nvPr/>
        </p:nvSpPr>
        <p:spPr>
          <a:xfrm>
            <a:off x="6400800" y="25909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Florida, Tallahasse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4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45" name="Freeform 7"/>
          <p:cNvSpPr/>
          <p:nvPr/>
        </p:nvSpPr>
        <p:spPr>
          <a:xfrm>
            <a:off x="4203720" y="2162160"/>
            <a:ext cx="774720" cy="628560"/>
          </a:xfrm>
          <a:custGeom>
            <a:avLst/>
            <a:gdLst/>
            <a:ahLst/>
            <a:rect l="l" t="t" r="r" b="b"/>
            <a:pathLst>
              <a:path w="488" h="396">
                <a:moveTo>
                  <a:pt x="461" y="311"/>
                </a:moveTo>
                <a:cubicBezTo>
                  <a:pt x="449" y="266"/>
                  <a:pt x="438" y="235"/>
                  <a:pt x="406" y="201"/>
                </a:cubicBezTo>
                <a:cubicBezTo>
                  <a:pt x="388" y="148"/>
                  <a:pt x="392" y="84"/>
                  <a:pt x="333" y="64"/>
                </a:cubicBezTo>
                <a:cubicBezTo>
                  <a:pt x="293" y="26"/>
                  <a:pt x="230" y="19"/>
                  <a:pt x="177" y="9"/>
                </a:cubicBezTo>
                <a:cubicBezTo>
                  <a:pt x="137" y="13"/>
                  <a:pt x="87" y="0"/>
                  <a:pt x="58" y="28"/>
                </a:cubicBezTo>
                <a:cubicBezTo>
                  <a:pt x="43" y="42"/>
                  <a:pt x="42" y="66"/>
                  <a:pt x="31" y="83"/>
                </a:cubicBezTo>
                <a:cubicBezTo>
                  <a:pt x="35" y="165"/>
                  <a:pt x="0" y="265"/>
                  <a:pt x="86" y="293"/>
                </a:cubicBezTo>
                <a:cubicBezTo>
                  <a:pt x="106" y="375"/>
                  <a:pt x="96" y="342"/>
                  <a:pt x="113" y="393"/>
                </a:cubicBezTo>
                <a:cubicBezTo>
                  <a:pt x="235" y="390"/>
                  <a:pt x="358" y="396"/>
                  <a:pt x="479" y="384"/>
                </a:cubicBezTo>
                <a:cubicBezTo>
                  <a:pt x="488" y="383"/>
                  <a:pt x="488" y="231"/>
                  <a:pt x="461" y="311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 Box 8"/>
          <p:cNvSpPr/>
          <p:nvPr/>
        </p:nvSpPr>
        <p:spPr>
          <a:xfrm>
            <a:off x="6629400" y="19051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e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i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MIMAL gets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easil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 Box 10"/>
          <p:cNvSpPr/>
          <p:nvPr/>
        </p:nvSpPr>
        <p:spPr>
          <a:xfrm>
            <a:off x="6246720" y="38592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Wisconsin, Madi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0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5"/>
          <p:cNvSpPr/>
          <p:nvPr/>
        </p:nvSpPr>
        <p:spPr>
          <a:xfrm>
            <a:off x="6248520" y="26668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ge Simpson upside down yelling about all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i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pringfie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Freeform 7"/>
          <p:cNvSpPr/>
          <p:nvPr/>
        </p:nvSpPr>
        <p:spPr>
          <a:xfrm>
            <a:off x="4495680" y="2666880"/>
            <a:ext cx="511200" cy="83664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Text Box 8"/>
          <p:cNvSpPr/>
          <p:nvPr/>
        </p:nvSpPr>
        <p:spPr>
          <a:xfrm>
            <a:off x="6324480" y="42670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Illinois, Springfiel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6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5"/>
          <p:cNvSpPr/>
          <p:nvPr/>
        </p:nvSpPr>
        <p:spPr>
          <a:xfrm>
            <a:off x="6248520" y="2666880"/>
            <a:ext cx="25146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 is best eaten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rank’s F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ran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ses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eat hi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Freeform 7"/>
          <p:cNvSpPr/>
          <p:nvPr/>
        </p:nvSpPr>
        <p:spPr>
          <a:xfrm rot="20632800">
            <a:off x="4734000" y="3119400"/>
            <a:ext cx="826920" cy="4572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Text Box 8"/>
          <p:cNvSpPr/>
          <p:nvPr/>
        </p:nvSpPr>
        <p:spPr>
          <a:xfrm>
            <a:off x="6858000" y="47242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Kentucky, Frankfo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2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63" name="Text Box 5"/>
          <p:cNvSpPr/>
          <p:nvPr/>
        </p:nvSpPr>
        <p:spPr>
          <a:xfrm>
            <a:off x="6248520" y="2666880"/>
            <a:ext cx="2514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play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enn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shvil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en C’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Freeform 7"/>
          <p:cNvSpPr/>
          <p:nvPr/>
        </p:nvSpPr>
        <p:spPr>
          <a:xfrm rot="20781600">
            <a:off x="4648320" y="3352320"/>
            <a:ext cx="990360" cy="45576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Text Box 8"/>
          <p:cNvSpPr/>
          <p:nvPr/>
        </p:nvSpPr>
        <p:spPr>
          <a:xfrm>
            <a:off x="6934320" y="51814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Tennessee, Nashvil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8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hael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ack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isses his Sipp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up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Freeform 7"/>
          <p:cNvSpPr/>
          <p:nvPr/>
        </p:nvSpPr>
        <p:spPr>
          <a:xfrm>
            <a:off x="4572000" y="3657600"/>
            <a:ext cx="533520" cy="91296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Text Box 8"/>
          <p:cNvSpPr/>
          <p:nvPr/>
        </p:nvSpPr>
        <p:spPr>
          <a:xfrm>
            <a:off x="6248520" y="41911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Mississippi, Jack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4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5"/>
          <p:cNvSpPr/>
          <p:nvPr/>
        </p:nvSpPr>
        <p:spPr>
          <a:xfrm>
            <a:off x="6248520" y="35053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unt Gumm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in Alabam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Freeform 7"/>
          <p:cNvSpPr/>
          <p:nvPr/>
        </p:nvSpPr>
        <p:spPr>
          <a:xfrm>
            <a:off x="4876920" y="3657600"/>
            <a:ext cx="533160" cy="7621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Text Box 8"/>
          <p:cNvSpPr/>
          <p:nvPr/>
        </p:nvSpPr>
        <p:spPr>
          <a:xfrm>
            <a:off x="6705720" y="22860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Alabama, Montgome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0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t La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eorg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see her diamon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Freeform 7"/>
          <p:cNvSpPr/>
          <p:nvPr/>
        </p:nvSpPr>
        <p:spPr>
          <a:xfrm>
            <a:off x="5257800" y="3581280"/>
            <a:ext cx="533520" cy="6955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8"/>
          <p:cNvSpPr/>
          <p:nvPr/>
        </p:nvSpPr>
        <p:spPr>
          <a:xfrm>
            <a:off x="6400800" y="39625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Georgia, Atlan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6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5"/>
          <p:cNvSpPr/>
          <p:nvPr/>
        </p:nvSpPr>
        <p:spPr>
          <a:xfrm>
            <a:off x="6248520" y="2666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aunt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roli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ways wears her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lumbi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‘carrot’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Freeform 7"/>
          <p:cNvSpPr/>
          <p:nvPr/>
        </p:nvSpPr>
        <p:spPr>
          <a:xfrm rot="20458200">
            <a:off x="5410080" y="3429000"/>
            <a:ext cx="601920" cy="60948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 Box 8"/>
          <p:cNvSpPr/>
          <p:nvPr/>
        </p:nvSpPr>
        <p:spPr>
          <a:xfrm>
            <a:off x="6248520" y="41148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South Carolina, Columb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13:35:24Z</dcterms:created>
  <dc:creator>Penn Cambria School District</dc:creator>
  <dc:description/>
  <dc:language>en-US</dc:language>
  <cp:lastModifiedBy>John Edgell</cp:lastModifiedBy>
  <dcterms:modified xsi:type="dcterms:W3CDTF">2016-10-07T15:58:43Z</dcterms:modified>
  <cp:revision>39</cp:revision>
  <dc:subject/>
  <dc:title>United States</dc:title>
</cp:coreProperties>
</file>